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168-A43B-4037-9FC9-8E7A7F0D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E640-EBB9-4DA9-A629-D7FB0158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5F0BA-7703-42A9-B216-083C9781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6EE5A-568B-4CF0-8489-55D84AAA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9FCB6-288A-4793-A41D-D9E401DD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F6C8E-8CB5-4EA7-AE4D-6F0D2358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0E90B-EA38-4B38-9E4C-CFB08679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9EE5E-F6B5-4C5D-8488-1B79F75E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2F4CB-58E5-4EBC-9FF0-B93B223D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3A294-9546-406B-96BB-2DD683CD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01154-0041-415B-9855-FAC54CB7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1516D-41D3-45E4-A0EF-EAE1AF0E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6515-3FAB-49C6-8FF3-B7F89EDF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9B49F-9DF6-457C-A86A-9AE0AB35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A0E34-C4D8-4F97-8DFE-2EACDE7A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2DB59-3C48-4C4B-915B-D39682ED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8DC95-9C2F-432A-B960-A876D07B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1969B-68F2-4EC0-A7A5-B82871B9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DC680-6991-4684-BBDD-97DA244A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D3A4C-48A9-44B9-B666-59CD7438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DF873-A99D-407E-9CD2-51526123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E91ED-AA61-4C5B-A909-00EA8214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F3F47-6D2C-4354-B251-4283F7CC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B4C9-CBD6-46C4-83CE-624FFC40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11302-DD1B-40F3-BB10-5E36F5D4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B3911-481F-4C94-91B4-83AF4A92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7E484-2693-48D1-BC27-B3C8F884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95459-F0A1-4102-9A96-FDADCDC7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22FF0-9E6A-4B4D-B8BF-7CD00A5D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01E53-DB8A-4963-81E5-EF94333A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E68C6-ADDA-4F9B-A811-30745BC9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74135-7B81-49B2-9636-1582D209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21ACC-ABF5-4ADC-BAC2-BEB8A569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5FC00-70AE-4950-B773-A2B6BC90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CBB4-9ADA-4907-92E1-CD94F67A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D683D-329C-4128-916F-A7675BF8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B833C-F9C7-4760-8403-9C89189F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BA0C6-B8EA-4FC4-B914-1CB667D2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E8715-3784-4219-90BF-268358D4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551C1-D08B-44D7-AB3A-4E9871EC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0C175-03E4-4F10-A534-81A6BEA0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35B55-7815-4793-96F4-B303E58E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7E152-1FDC-4F71-BE20-460FD482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614BB-8CF4-4C9D-920E-7ECB97C7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5079C-E34A-4FA4-8ABE-C16F6064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E69B-DB22-4CC4-9649-054761D1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BFC8B-15B0-4AFD-B2FF-845CE5D2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1D86A-437C-4E87-BF94-2F4EAA6E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FBAD6-449A-489F-8A86-0A7E727E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05C9B-720B-4115-9FE7-5E99E63A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202F4-4E2B-415D-8868-1FC8383F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EC98C7-5336-44A7-8BEA-F016FA8C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6F3D0A-5C85-4686-B3D0-5F741BFC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F2E53-9E52-4549-A541-D9E8FB7C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F11870-7EEC-4FAB-A026-5C24F03A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50CD2E-AC8D-49FD-9E44-83504F0F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2C97-89B2-4A19-89C8-09E83EA1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5116F-7B2E-4649-8979-6EF7238E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82DCD5-942D-498B-8803-60606905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C90A35-9BB9-4D00-AA3E-BC638D66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897FA5-DA8D-4EAA-B1DB-5074EC73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BA8D7E-B12B-424F-AA58-ECB788E2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96680-F474-4819-9252-EB7F4C14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AE58E3-03FD-46E5-B1E0-6309FB82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ED3E68-2C36-477C-B8A3-75BA2C74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1B1FF6-BA2C-4077-A29C-785F095B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673B7F-5037-4E78-B541-F6274E2D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324F-9514-4A57-8004-BC67DFED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99832A-3675-4A6F-8CD8-3EC81554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B1EFE1-EC84-4876-902C-1339032F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C7606-7E36-4C83-A62A-358A2A51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ABE3EC-BD3B-4327-A2B1-186BAFB8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4E6D4B-2DA9-4D3E-B97E-145CEA53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A5C676-9CE1-49F7-90A0-96C1E97A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8598DE-1EC3-4DC3-B755-129C0F84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26D8D9-7FDF-4C2A-A75D-8AB9ABCE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258FDD-2DAD-4B52-82F9-C28DFFDB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C59B59-1FBC-4353-BB6A-C49D7161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711A-F366-453A-9CBC-47474403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BBE705-6B43-4BA7-951D-4B017B9E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8745A4-EF8A-481E-972E-AE1651FE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8D72E7-03C9-4DC6-8761-50F80CFD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4B0B6D-E75D-4980-859A-C10668B5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30043D-FF10-4929-A63F-4650E1EE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AE076E-57A6-4174-B81C-CDD98C57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689A9F-CEF7-4F9C-9D77-A49AE57B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3B2612-F164-4A8A-89C1-E1D35D40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11B66C-5959-44A0-9722-CB3F1ED8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87883A-C3E2-425A-86CC-23CDDA49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BCE2-F786-4DD1-A7C2-0D594A6F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9EFE33-0969-458E-8583-C531B737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71CE-FDA7-412E-BDA7-F75284D8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179D-D65E-4BBC-A69A-DA1420CC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83F8-B612-4188-B9A5-E0F16024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9E56-4952-415B-ADBA-43B02F5F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87B1-E364-4F0C-B33D-C554A558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D144-5AF0-47DD-BF18-EF281757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DCA1-B788-48E5-82A1-222FFBE4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F7B65-63A5-48B9-98F7-A4B7D1F0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83563-2F18-4EBE-AAF4-56EFE1BD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16794-E9A1-4A3E-A9B3-3FD76076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8950F-0C54-4FF6-9510-8C40D1C0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96632-72CB-45C5-8044-28BFC4AB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4973-AFA5-45F0-BFD1-F26E840F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09BA7-05DF-465E-B284-EAF5D659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01785-ADD2-45DE-A718-7FC3124C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A8C89-99A6-4208-92D2-4AF4C5A4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6F9DE-D1F7-44D8-B0F3-0D59827E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4EB5A-C2BF-4F5C-A480-011EAF40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32345-FBEA-4DE5-B3FB-11D953B9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25FC7-193D-49DA-BB8A-21CBEE08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63884-5C44-45D0-AD8D-70007197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B8A50-9B2D-42F2-844A-E0AD6BBA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EF989-4826-42C5-9BAA-AEA9BF97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ACFA-0C6B-44E2-A212-D343C33D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4A103-A557-4BE6-807F-993F199A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BC3FF-A2FA-4F3D-B0C5-AE465C1C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D6BDF-63A9-4412-84C6-F5F6683C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FB8E0-F133-4578-BC0C-254808E4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7C81C-C4A8-4CC0-8C51-B489951C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1F6F0-4ED0-470C-8880-3FF7E28C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4ED59-FFA4-4E97-BF71-56D3FD93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8C585-454B-4067-91EF-06A8D11A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AED18-BD40-46F7-813A-8E4FF590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199FA-7D9C-4ED6-96CB-3D9B5B6D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5988-956E-4D33-B0E5-5522451A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9666E-2AEB-46D1-B6F3-C753CA79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F94C3-72E3-4F14-9B49-40B28CC3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2B3F0-35E3-4FD3-A520-A6D0CBDC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49A66-1A03-4504-A4DD-596D4305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9AD4F-36EF-4FF7-AD1E-DA32728F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1C8B8-2A04-4D6B-BF07-8FF968CE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D4341-641C-4ABB-9C69-F918DA2A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E6F1C-F3F7-410A-A452-9D164793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BEF87-A445-4E48-A736-13EE5D5F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BC77F-4D15-4D18-8B44-BD0974BC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50F3-C3AD-4666-81E0-A7684E21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AEDD0-F449-4952-A1F3-812FAC74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FC484-FB5A-4D73-A43A-EB05DE6E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42D52-4F70-4685-8925-7896B827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5BC32-B8F4-451B-B46D-5D4F5D68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D2493-FE53-4AB0-AA9A-8632F648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8626C-EEA0-4D3B-8FDA-A88947B9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B8F12-FBB9-42FF-8B79-62398BF3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8750A-54A9-4B08-A90C-478B9A1E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E6686-3F72-4F8A-874D-22081111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7757F-5686-441F-B408-A20DBFB0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74DB-1B2B-4B65-87F1-75245A78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F83F4-4451-4F09-83DF-3AB0BBAD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6C005-25A1-492A-8630-08C71C79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0218F-BC73-454C-8F27-5B062073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9298B-F6E7-4427-AD6F-2BAA306A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DF0B4-A9E5-4DF2-AC4C-FFC1EF10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AEC79-B9F4-4438-9EC1-E62D4061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D8573-9457-458D-BF7C-1CDB825C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E6AFB-57AF-42EE-ABBB-687B053B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5CE02-2ACB-40F9-AB79-E23CAFCA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A6EB9-06AF-4127-A187-D63CDB4E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A7DE-386F-4505-92C9-6D3A9334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8A9B7-F434-45DD-9EC9-C6DA2421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F5545-3869-46D5-ABE6-F8FAE111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CF1E4-0189-473A-850F-819570B3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E577A-5266-45A6-8B2D-4DBB0905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ACA49-EE2F-4465-803B-2DBA552F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074F9-B85D-4B7B-956E-6C76C185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3BDA1-FD09-4A27-B306-835B65CB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E18FB-F64E-481E-838B-7050FD7A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8205F-87E8-472D-ACCF-D736F4B9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A0E45-1854-41AE-88F8-264EB47F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9671-4CD3-4B65-8632-A20733E6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79040" y="63000"/>
            <a:ext cx="75834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2AFF6-DE4B-4E77-9C79-C2665CA9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46527-2F7A-4BE3-BEB4-1E7A85D9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FAB2E-C2FD-4894-8A67-57D113CA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82235-366C-4E92-A806-2E9B0E56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779040" y="4073040"/>
            <a:ext cx="75834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651A6-35D8-4DC4-A49E-0FE688BE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4880" y="18284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7904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4880" y="4073040"/>
            <a:ext cx="3700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43111-80BB-4ED5-B58E-63DE7D7C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4296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906880" y="18284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77904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4296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906880" y="4073040"/>
            <a:ext cx="2441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B5180-F862-418A-9D26-2D71C65C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CF8A1-0546-4F5B-A585-CB30F545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583BF-EA6C-4ECA-85D7-EC6D0045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0BA47-7162-41A3-87B2-8151F687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C48E0-37EB-44E3-B252-851C40F9E42A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5D7071-27E9-4827-B27F-AA2121F0B527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overlay-ruleShadow.png"/>
          <p:cNvPicPr/>
          <p:nvPr/>
        </p:nvPicPr>
        <p:blipFill>
          <a:blip r:embed="rId4"/>
          <a:srcRect l="0" t="25032" r="0" b="0"/>
          <a:stretch/>
        </p:blipFill>
        <p:spPr>
          <a:xfrm>
            <a:off x="4451400" y="0"/>
            <a:ext cx="125280" cy="68547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2666520" y="6356520"/>
            <a:ext cx="162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1C934-2D62-439F-B307-A72B359F32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240840" y="6356520"/>
            <a:ext cx="189252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1891800" y="5748480"/>
            <a:ext cx="762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000000"/>
                </a:solidFill>
                <a:latin typeface="Perpetua Titling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9DB5DF-4B07-437B-B9FA-1055EEB0D64E}" type="slidenum">
              <a:rPr b="0" lang="en-US" sz="3600" spc="-1" strike="noStrike">
                <a:solidFill>
                  <a:srgbClr val="000000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6" descr="Overlay-FullBackground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572000" y="468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overlay-ruleShadow.png"/>
          <p:cNvPicPr/>
          <p:nvPr/>
        </p:nvPicPr>
        <p:blipFill>
          <a:blip r:embed="rId4"/>
          <a:srcRect l="0" t="25032" r="0" b="0"/>
          <a:stretch/>
        </p:blipFill>
        <p:spPr>
          <a:xfrm>
            <a:off x="4451400" y="0"/>
            <a:ext cx="125280" cy="685476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2670120" y="6356520"/>
            <a:ext cx="162720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649A8-AC36-4291-9575-7DFFBAC4A8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240840" y="6356520"/>
            <a:ext cx="18939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1892160" y="5738760"/>
            <a:ext cx="7588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000000"/>
                </a:solidFill>
                <a:latin typeface="Perpetua Titling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8C0CF-B5D2-495C-B68B-B468243FF758}" type="slidenum">
              <a:rPr b="0" lang="en-US" sz="3600" spc="-1" strike="noStrike">
                <a:solidFill>
                  <a:srgbClr val="000000"/>
                </a:solidFill>
                <a:latin typeface="Perpetua Titling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195D5-B705-424B-B5D3-6308FDEE192F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829EC-2F84-435C-95BE-B1C4CC6CA139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891BB-19E2-48BB-9E3E-630A04E037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FA92C-A83A-4F70-AB83-87CF4C0BF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EA6F5-C754-4E9B-86EE-59DB70BFA19A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76D1B-74AE-4406-9116-F08B32459CE8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6" descr="Overlay-FullBackground.jpg"/>
          <p:cNvPicPr/>
          <p:nvPr/>
        </p:nvPicPr>
        <p:blipFill>
          <a:blip r:embed="rId3"/>
          <a:srcRect l="0" t="0" r="14720" b="0"/>
          <a:stretch/>
        </p:blipFill>
        <p:spPr>
          <a:xfrm>
            <a:off x="0" y="4680"/>
            <a:ext cx="7797960" cy="6858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7" descr="overlay-ruleShadow.png"/>
          <p:cNvPicPr/>
          <p:nvPr/>
        </p:nvPicPr>
        <p:blipFill>
          <a:blip r:embed="rId4"/>
          <a:srcRect l="0" t="0" r="25032" b="0"/>
          <a:stretch/>
        </p:blipFill>
        <p:spPr>
          <a:xfrm flipH="1" rot="5400000">
            <a:off x="4421880" y="3364200"/>
            <a:ext cx="6854760" cy="12528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3"/>
          </p:nvPr>
        </p:nvSpPr>
        <p:spPr>
          <a:xfrm>
            <a:off x="7924680" y="6356520"/>
            <a:ext cx="1067040" cy="36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8A736-B872-4E0F-BE48-77D62E2D8F8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6BBB4-4929-40EF-9FBC-279D5C61F4FA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0E22EE-E745-422C-A395-35DA30F559B6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643C3-9704-483F-B424-D22BFE739C78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DE7DA6-CACA-49E7-BECF-AD8345EB67E3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29498-75FB-4459-99A4-5A60A4425239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Overlay-FullBackground.jpg"/>
          <p:cNvPicPr/>
          <p:nvPr/>
        </p:nvPicPr>
        <p:blipFill>
          <a:blip r:embed="rId3"/>
          <a:srcRect l="0" t="50005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verlay-ruleShadow.png"/>
          <p:cNvPicPr/>
          <p:nvPr/>
        </p:nvPicPr>
        <p:blipFill>
          <a:blip r:embed="rId4"/>
          <a:stretch/>
        </p:blipFill>
        <p:spPr>
          <a:xfrm>
            <a:off x="0" y="3303720"/>
            <a:ext cx="9144000" cy="125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659B1-D677-4212-B594-5C1BA01732DE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738A2-C4A5-4E6F-88C8-6E7F4855EEFD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4446720"/>
            <a:ext cx="9144000" cy="12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Overlay-FullBackground.jpg"/>
          <p:cNvPicPr/>
          <p:nvPr/>
        </p:nvPicPr>
        <p:blipFill>
          <a:blip r:embed="rId4"/>
          <a:srcRect l="0" t="66668" r="0" b="0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28B433-53B9-461A-A013-701D736A24D2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6FF5C-3A70-48C0-A18A-96C0C27EFE35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1E3B3C-1EE0-477E-ACB9-65A718836946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7AC52-8484-4B42-820C-EC476A2F4E56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Overlay-FullBackground.jpg"/>
          <p:cNvPicPr/>
          <p:nvPr/>
        </p:nvPicPr>
        <p:blipFill>
          <a:blip r:embed="rId4"/>
          <a:srcRect l="0" t="23337" r="0" b="0"/>
          <a:stretch/>
        </p:blipFill>
        <p:spPr>
          <a:xfrm>
            <a:off x="0" y="1425600"/>
            <a:ext cx="9144000" cy="543240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34EC3-8E08-426E-BC4C-60475E6F6417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55EFF6-70DB-4BA3-884C-DFAD38D4EFDE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overlay-ruleShadow.png"/>
          <p:cNvPicPr/>
          <p:nvPr/>
        </p:nvPicPr>
        <p:blipFill>
          <a:blip r:embed="rId3"/>
          <a:stretch/>
        </p:blipFill>
        <p:spPr>
          <a:xfrm>
            <a:off x="0" y="130824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Overlay-FullBackground.jpg"/>
          <p:cNvPicPr/>
          <p:nvPr/>
        </p:nvPicPr>
        <p:blipFill>
          <a:blip r:embed="rId4"/>
          <a:srcRect l="0" t="21048" r="0" b="0"/>
          <a:stretch/>
        </p:blipFill>
        <p:spPr>
          <a:xfrm>
            <a:off x="0" y="1447920"/>
            <a:ext cx="9144000" cy="54147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EF877-427E-4B59-B45D-97AE9B533C70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0D3B3-D526-4F67-91BC-251A010B4E94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6" descr="Overlay-FullBackground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79040" y="63000"/>
            <a:ext cx="7583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erpetua Titling M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Perpetua Titling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79040" y="1828440"/>
            <a:ext cx="758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1" marL="577800" indent="-2952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2" marL="8604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3" marL="1143000" indent="-282600">
              <a:spcBef>
                <a:spcPts val="2001"/>
              </a:spcBef>
              <a:buClr>
                <a:srgbClr val="858585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4" marL="1425600" indent="-282600">
              <a:spcBef>
                <a:spcPts val="2001"/>
              </a:spcBef>
              <a:buClr>
                <a:srgbClr val="333333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5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  <a:p>
            <a:pPr lvl="6" marL="1425600" indent="-282600">
              <a:spcBef>
                <a:spcPts val="2001"/>
              </a:spcBef>
              <a:buClr>
                <a:srgbClr val="ffffff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sto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6732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0B903-9F1D-47F4-90F6-7B1BF50BD07E}" type="datetime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4120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8739B-59FA-459A-9CB9-BB5C15A73DF5}" type="slidenum"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Title 17" descr=""/>
          <p:cNvPicPr/>
          <p:nvPr/>
        </p:nvPicPr>
        <p:blipFill>
          <a:blip r:embed="rId2"/>
          <a:stretch/>
        </p:blipFill>
        <p:spPr>
          <a:xfrm>
            <a:off x="122400" y="122400"/>
            <a:ext cx="5003640" cy="1590480"/>
          </a:xfrm>
          <a:prstGeom prst="rect">
            <a:avLst/>
          </a:prstGeom>
          <a:ln w="0">
            <a:noFill/>
          </a:ln>
        </p:spPr>
      </p:pic>
      <p:pic>
        <p:nvPicPr>
          <p:cNvPr id="640" name="Vertical Text Placeholder 18" descr=""/>
          <p:cNvPicPr/>
          <p:nvPr/>
        </p:nvPicPr>
        <p:blipFill>
          <a:blip r:embed="rId3"/>
          <a:stretch/>
        </p:blipFill>
        <p:spPr>
          <a:xfrm>
            <a:off x="60480" y="1060560"/>
            <a:ext cx="9126360" cy="1682640"/>
          </a:xfrm>
          <a:prstGeom prst="rect">
            <a:avLst/>
          </a:prstGeom>
          <a:ln w="0">
            <a:noFill/>
          </a:ln>
        </p:spPr>
      </p:pic>
      <p:pic>
        <p:nvPicPr>
          <p:cNvPr id="641" name="TextBox 3" descr=""/>
          <p:cNvPicPr/>
          <p:nvPr/>
        </p:nvPicPr>
        <p:blipFill>
          <a:blip r:embed="rId4"/>
          <a:stretch/>
        </p:blipFill>
        <p:spPr>
          <a:xfrm>
            <a:off x="5334120" y="165240"/>
            <a:ext cx="3633840" cy="761760"/>
          </a:xfrm>
          <a:prstGeom prst="rect">
            <a:avLst/>
          </a:prstGeom>
          <a:ln w="0">
            <a:noFill/>
          </a:ln>
        </p:spPr>
      </p:pic>
      <p:sp>
        <p:nvSpPr>
          <p:cNvPr id="642" name="TextBox 4"/>
          <p:cNvSpPr/>
          <p:nvPr/>
        </p:nvSpPr>
        <p:spPr>
          <a:xfrm>
            <a:off x="274680" y="2717640"/>
            <a:ext cx="28623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sto MT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274680" y="2255760"/>
          <a:ext cx="3136680" cy="4307040"/>
        </p:xfrm>
        <a:graphic>
          <a:graphicData uri="http://schemas.openxmlformats.org/drawingml/2006/table">
            <a:tbl>
              <a:tblPr/>
              <a:tblGrid>
                <a:gridCol w="1568520"/>
                <a:gridCol w="156816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What do I need to know?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21f07"/>
                      </a:solidFill>
                    </a:lnT>
                    <a:lnB w="12240">
                      <a:solidFill>
                        <a:srgbClr val="921f07"/>
                      </a:solidFill>
                    </a:lnB>
                    <a:solidFill>
                      <a:srgbClr val="9b6c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How will I find out?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21f07"/>
                      </a:solidFill>
                    </a:lnT>
                    <a:lnB w="12240">
                      <a:solidFill>
                        <a:srgbClr val="921f07"/>
                      </a:solidFill>
                    </a:lnB>
                    <a:solidFill>
                      <a:srgbClr val="9b6c34"/>
                    </a:solidFill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How many professional development sessions did teachers attend?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21f07"/>
                      </a:solidFill>
                    </a:lnT>
                    <a:lnB>
                      <a:noFill/>
                    </a:lnB>
                    <a:solidFill>
                      <a:srgbClr val="ee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Log of attendanc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21f07"/>
                      </a:solidFill>
                    </a:lnT>
                    <a:lnB>
                      <a:noFill/>
                    </a:lnB>
                    <a:solidFill>
                      <a:srgbClr val="eee7e7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How effective did the teachers feel the professional development was?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Survey Questionnair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How many new vocabulary lessons were co-created?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Notebook of lesson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7e7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How often were the new lessons taught?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Teacher lesson plan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What areas of the SCOS were addressed in these lessons?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Teacher lesson plan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7e7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Did the students perform higher on the Reading 180 literacy assessments?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Pre and post Reading 180 assessmen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Did the students perform higher on the Reading 180 vocabulary assessment?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Pre and post Reading 180 assessmen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7e7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How many students increased vocabulary words on the post lesson assessment?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921f0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Pre and post data for each unit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921f0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3564000" y="2255760"/>
          <a:ext cx="3598920" cy="4307040"/>
        </p:xfrm>
        <a:graphic>
          <a:graphicData uri="http://schemas.openxmlformats.org/drawingml/2006/table">
            <a:tbl>
              <a:tblPr/>
              <a:tblGrid>
                <a:gridCol w="1315800"/>
                <a:gridCol w="2283120"/>
              </a:tblGrid>
              <a:tr h="23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Strategie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21f07"/>
                      </a:solidFill>
                    </a:lnT>
                    <a:lnB w="12240">
                      <a:solidFill>
                        <a:srgbClr val="921f07"/>
                      </a:solidFill>
                    </a:lnB>
                    <a:solidFill>
                      <a:srgbClr val="9b6c3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Result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21f07"/>
                      </a:solidFill>
                    </a:lnT>
                    <a:lnB w="12240">
                      <a:solidFill>
                        <a:srgbClr val="921f07"/>
                      </a:solidFill>
                    </a:lnB>
                    <a:solidFill>
                      <a:srgbClr val="9b6c34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Teachers will attend PD on vocabulary development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21f07"/>
                      </a:solidFill>
                    </a:lnT>
                    <a:lnB>
                      <a:noFill/>
                    </a:lnB>
                    <a:solidFill>
                      <a:srgbClr val="ee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Teachers attended 7 sessions each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21f07"/>
                      </a:solidFill>
                    </a:lnT>
                    <a:lnB>
                      <a:noFill/>
                    </a:lnB>
                    <a:solidFill>
                      <a:srgbClr val="eee7e7"/>
                    </a:solidFill>
                  </a:tcPr>
                </a:tc>
              </a:tr>
              <a:tr h="12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Teachers will co-create useful and effective vocabulary lesson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Overall, teachers agreed PD did increase their knowledge and would use the information learned as part of their vocabulary instruction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New lessons were not created but were added to weekly lesson plan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Teachers will teach lessons consistently and daily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Since January 2012, vocabulary instruction was included in weekly lesson plans for ELA, Math, Science and Social Studie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7e7"/>
                    </a:solidFill>
                  </a:tcPr>
                </a:tc>
              </a:tr>
              <a:tr h="12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Students literacy skills will increase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This will be measured at the end of this school year as post assessments have not be given as of yet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One unit pre and post test, 100% of students made gains in the post assessment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Time will be set aside daily for vocabulary instructio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921f07"/>
                      </a:solidFill>
                    </a:lnB>
                    <a:solidFill>
                      <a:srgbClr val="ee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921f07"/>
                          </a:solidFill>
                          <a:latin typeface="Calisto MT"/>
                        </a:rPr>
                        <a:t>Teachers incorporated vocabulary instruction in their daily lesson plans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Calisto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921f07"/>
                      </a:solidFill>
                    </a:lnB>
                    <a:solidFill>
                      <a:srgbClr val="eee7e7"/>
                    </a:solidFill>
                  </a:tcPr>
                </a:tc>
              </a:tr>
            </a:tbl>
          </a:graphicData>
        </a:graphic>
      </p:graphicFrame>
      <p:pic>
        <p:nvPicPr>
          <p:cNvPr id="645" name="TextBox 19" descr=""/>
          <p:cNvPicPr/>
          <p:nvPr/>
        </p:nvPicPr>
        <p:blipFill>
          <a:blip r:embed="rId5"/>
          <a:stretch/>
        </p:blipFill>
        <p:spPr>
          <a:xfrm>
            <a:off x="7218360" y="2182680"/>
            <a:ext cx="1932120" cy="4894560"/>
          </a:xfrm>
          <a:prstGeom prst="rect">
            <a:avLst/>
          </a:prstGeom>
          <a:ln w="0">
            <a:noFill/>
          </a:ln>
        </p:spPr>
      </p:pic>
      <p:pic>
        <p:nvPicPr>
          <p:cNvPr id="646" name="TextBox 20" descr=""/>
          <p:cNvPicPr/>
          <p:nvPr/>
        </p:nvPicPr>
        <p:blipFill>
          <a:blip r:embed="rId6"/>
          <a:stretch/>
        </p:blipFill>
        <p:spPr>
          <a:xfrm>
            <a:off x="85680" y="1925640"/>
            <a:ext cx="3529080" cy="793800"/>
          </a:xfrm>
          <a:prstGeom prst="rect">
            <a:avLst/>
          </a:prstGeom>
          <a:ln w="0">
            <a:noFill/>
          </a:ln>
        </p:spPr>
      </p:pic>
      <p:pic>
        <p:nvPicPr>
          <p:cNvPr id="647" name="TextBox 21" descr=""/>
          <p:cNvPicPr/>
          <p:nvPr/>
        </p:nvPicPr>
        <p:blipFill>
          <a:blip r:embed="rId7"/>
          <a:stretch/>
        </p:blipFill>
        <p:spPr>
          <a:xfrm>
            <a:off x="3371760" y="1925640"/>
            <a:ext cx="3998880" cy="793800"/>
          </a:xfrm>
          <a:prstGeom prst="rect">
            <a:avLst/>
          </a:prstGeom>
          <a:ln w="0">
            <a:noFill/>
          </a:ln>
        </p:spPr>
      </p:pic>
      <p:pic>
        <p:nvPicPr>
          <p:cNvPr id="648" name="TextBox 22" descr=""/>
          <p:cNvPicPr/>
          <p:nvPr/>
        </p:nvPicPr>
        <p:blipFill>
          <a:blip r:embed="rId8"/>
          <a:stretch/>
        </p:blipFill>
        <p:spPr>
          <a:xfrm>
            <a:off x="7218360" y="1925640"/>
            <a:ext cx="1932120" cy="793800"/>
          </a:xfrm>
          <a:prstGeom prst="rect">
            <a:avLst/>
          </a:prstGeom>
          <a:ln w="0">
            <a:noFill/>
          </a:ln>
        </p:spPr>
      </p:pic>
      <p:pic>
        <p:nvPicPr>
          <p:cNvPr id="649" name="TextBox 23" descr=""/>
          <p:cNvPicPr/>
          <p:nvPr/>
        </p:nvPicPr>
        <p:blipFill>
          <a:blip r:embed="rId9"/>
          <a:stretch/>
        </p:blipFill>
        <p:spPr>
          <a:xfrm>
            <a:off x="7218360" y="4956120"/>
            <a:ext cx="1932120" cy="3157560"/>
          </a:xfrm>
          <a:prstGeom prst="rect">
            <a:avLst/>
          </a:prstGeom>
          <a:ln w="0">
            <a:noFill/>
          </a:ln>
        </p:spPr>
      </p:pic>
      <p:pic>
        <p:nvPicPr>
          <p:cNvPr id="650" name="TextBox 14" descr=""/>
          <p:cNvPicPr/>
          <p:nvPr/>
        </p:nvPicPr>
        <p:blipFill>
          <a:blip r:embed="rId10"/>
          <a:stretch/>
        </p:blipFill>
        <p:spPr>
          <a:xfrm>
            <a:off x="7218360" y="4694400"/>
            <a:ext cx="193212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20:09:44Z</dcterms:created>
  <dc:creator>NELA Fellow</dc:creator>
  <dc:description/>
  <dc:language>en-US</dc:language>
  <cp:lastModifiedBy>williamss</cp:lastModifiedBy>
  <dcterms:modified xsi:type="dcterms:W3CDTF">2012-04-13T16:59:44Z</dcterms:modified>
  <cp:revision>10</cp:revision>
  <dc:subject/>
  <dc:title>Slide 1</dc:title>
</cp:coreProperties>
</file>